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8388" cy="302799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77784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2021040" y="-11949480"/>
            <a:ext cx="2627280" cy="2910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341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42660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777840" y="942660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4393A-5C6F-46AE-831A-F2542FA10182}" type="slidenum"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78200" y="942660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41DDD-E8D9-43C8-A91B-B01DA1249D72}" type="slidenum">
              <a:rPr b="0" lang="pt-PT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-6945480" y="-11949120"/>
            <a:ext cx="20561400" cy="291099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FA95-CEFC-45F3-B428-FF02113F58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480" y="7067160"/>
            <a:ext cx="1924848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480" y="19231560"/>
            <a:ext cx="1924848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9CBE-EE0B-42F0-BDDB-3489BAC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480" y="70671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1760" y="70671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480" y="192315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1760" y="192315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72A5-8F9A-4F4B-8631-A245668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480" y="7067160"/>
            <a:ext cx="619776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6560" y="7067160"/>
            <a:ext cx="619776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4640" y="7067160"/>
            <a:ext cx="619776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480" y="19231560"/>
            <a:ext cx="619776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6560" y="19231560"/>
            <a:ext cx="619776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4640" y="19231560"/>
            <a:ext cx="619776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EC32-98C5-4A51-98ED-28DFBF0C3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480" y="7067160"/>
            <a:ext cx="19248480" cy="232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51C3-A2D9-4175-8218-0DFA0FEB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480" y="7067160"/>
            <a:ext cx="19248480" cy="2328876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7F00-94C2-4F1B-A2B9-C1ABA2D3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480" y="7067160"/>
            <a:ext cx="9393120" cy="2328876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1760" y="7067160"/>
            <a:ext cx="9393120" cy="2328876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3933-54F8-496E-B3BD-17287374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3E3D-47FF-4411-8AD3-208C337C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1212840"/>
            <a:ext cx="19248480" cy="2338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8067-3E86-464D-8756-9F2C633C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480" y="70671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1760" y="7067160"/>
            <a:ext cx="9393120" cy="2328876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480" y="192315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7E27-7C86-4D62-8197-27BC890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480" y="7067160"/>
            <a:ext cx="9393120" cy="2328876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1760" y="70671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1760" y="192315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7E47-13B2-4212-8FBC-B25C3A73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480" y="70671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1760" y="7067160"/>
            <a:ext cx="939312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480" y="19231560"/>
            <a:ext cx="19248480" cy="111085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1276-F53C-4497-B788-E7AFEB09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48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8480" y="7067160"/>
            <a:ext cx="19248480" cy="2328876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t">
            <a:normAutofit/>
          </a:bodyPr>
          <a:p>
            <a:pPr marL="343080" indent="0">
              <a:spcBef>
                <a:spcPts val="24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4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24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24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24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24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24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8480" y="28063800"/>
            <a:ext cx="4991040" cy="16099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7305840" y="28063800"/>
            <a:ext cx="677520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325200" y="28063800"/>
            <a:ext cx="4991400" cy="1609920"/>
          </a:xfrm>
          <a:prstGeom prst="rect">
            <a:avLst/>
          </a:prstGeom>
          <a:noFill/>
          <a:ln w="0">
            <a:noFill/>
          </a:ln>
        </p:spPr>
        <p:txBody>
          <a:bodyPr lIns="281880" rIns="281880" tIns="140760" bIns="140760" anchor="ctr">
            <a:noAutofit/>
          </a:bodyPr>
          <a:lstStyle>
            <a:lvl1pPr indent="0">
              <a:buNone/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5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00809-131F-4DFD-8E95-181B06F07F44}" type="slidenum">
              <a:rPr b="0" lang="pt-PT" sz="55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1"/>
          <p:cNvSpPr/>
          <p:nvPr/>
        </p:nvSpPr>
        <p:spPr>
          <a:xfrm flipV="1" rot="5400000">
            <a:off x="14072400" y="22928040"/>
            <a:ext cx="179640" cy="14557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3cf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-36360" y="3290760"/>
            <a:ext cx="995040" cy="451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-46080" y="7283520"/>
            <a:ext cx="179280" cy="2041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-23760" y="27597240"/>
            <a:ext cx="7549920" cy="270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1880" rIns="281880" tIns="140760" bIns="1407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941280" y="6550200"/>
            <a:ext cx="7805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enciado/Mestre pela UC, no ano de X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009840" y="4486320"/>
            <a:ext cx="598176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strado Integrado em Eng. Mecâ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3084200" y="3986280"/>
            <a:ext cx="1941480" cy="242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15333840" y="20828160"/>
            <a:ext cx="4485960" cy="3738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14055840" y="15127200"/>
            <a:ext cx="4549680" cy="4597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4"/>
          <a:stretch/>
        </p:blipFill>
        <p:spPr>
          <a:xfrm>
            <a:off x="15408360" y="10466280"/>
            <a:ext cx="4319640" cy="3144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958680" y="3290760"/>
            <a:ext cx="1135872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ítul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pervisor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??? (DEM-UC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 ??? (FEU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 flipH="1" flipV="1">
            <a:off x="21260160" y="3290760"/>
            <a:ext cx="179640" cy="26989200"/>
          </a:xfrm>
          <a:prstGeom prst="rect">
            <a:avLst/>
          </a:prstGeom>
          <a:solidFill>
            <a:srgbClr val="f3cf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692440" y="423720"/>
            <a:ext cx="4856040" cy="2213280"/>
            <a:chOff x="2692440" y="423720"/>
            <a:chExt cx="4856040" cy="2213280"/>
          </a:xfrm>
        </p:grpSpPr>
        <p:pic>
          <p:nvPicPr>
            <p:cNvPr id="62" name="Picture 14" descr=""/>
            <p:cNvPicPr/>
            <p:nvPr/>
          </p:nvPicPr>
          <p:blipFill>
            <a:blip r:embed="rId5"/>
            <a:stretch/>
          </p:blipFill>
          <p:spPr>
            <a:xfrm>
              <a:off x="4202280" y="423720"/>
              <a:ext cx="183492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5"/>
            <p:cNvSpPr/>
            <p:nvPr/>
          </p:nvSpPr>
          <p:spPr>
            <a:xfrm>
              <a:off x="3088440" y="1027080"/>
              <a:ext cx="74916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1200" bIns="61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13040"/>
                  <a:tab algn="l" pos="5627520"/>
                  <a:tab algn="l" pos="844236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PT" sz="5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</a:t>
              </a:r>
              <a:endParaRPr b="0" lang="en-US" sz="5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6"/>
            <p:cNvSpPr/>
            <p:nvPr/>
          </p:nvSpPr>
          <p:spPr>
            <a:xfrm>
              <a:off x="6263640" y="1027080"/>
              <a:ext cx="74916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1200" bIns="61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13040"/>
                  <a:tab algn="l" pos="5627520"/>
                  <a:tab algn="l" pos="844236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PT" sz="5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5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7"/>
            <p:cNvSpPr/>
            <p:nvPr/>
          </p:nvSpPr>
          <p:spPr>
            <a:xfrm>
              <a:off x="2692440" y="1509840"/>
              <a:ext cx="44280" cy="41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5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8"/>
            <p:cNvSpPr/>
            <p:nvPr/>
          </p:nvSpPr>
          <p:spPr>
            <a:xfrm>
              <a:off x="7504200" y="1509840"/>
              <a:ext cx="44280" cy="41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5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Text Box 20"/>
          <p:cNvSpPr/>
          <p:nvPr/>
        </p:nvSpPr>
        <p:spPr>
          <a:xfrm>
            <a:off x="276120" y="8893080"/>
            <a:ext cx="13215960" cy="18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1880" rIns="281880" tIns="140760" bIns="1407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r>
              <a:rPr b="1" lang="pt-PT" sz="4800" spc="-1" strike="noStrike">
                <a:solidFill>
                  <a:srgbClr val="c45b58"/>
                </a:solidFill>
                <a:latin typeface="Calibri"/>
              </a:rPr>
              <a:t>Motivação e Objectiv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r>
              <a:rPr b="1" lang="pt-PT" sz="3200" spc="-1" strike="noStrike">
                <a:solidFill>
                  <a:srgbClr val="c45b58"/>
                </a:solidFill>
                <a:latin typeface="Calibri"/>
              </a:rPr>
              <a:t>Motivation and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TEXTO – Motivação e objectiv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r>
              <a:rPr b="1" lang="pt-PT" sz="4800" spc="-1" strike="noStrike">
                <a:solidFill>
                  <a:srgbClr val="c45b58"/>
                </a:solidFill>
                <a:latin typeface="Calibri"/>
              </a:rPr>
              <a:t>Plano de Trabalh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r>
              <a:rPr b="1" lang="pt-PT" sz="3200" spc="-1" strike="noStrike">
                <a:solidFill>
                  <a:srgbClr val="c45b58"/>
                </a:solidFill>
                <a:latin typeface="Calibri"/>
              </a:rPr>
              <a:t>Work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TEXTO – Plano de Trabal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r>
              <a:rPr b="1" lang="pt-PT" sz="4800" spc="-1" strike="noStrike">
                <a:solidFill>
                  <a:srgbClr val="c45b58"/>
                </a:solidFill>
                <a:latin typeface="Calibri"/>
              </a:rPr>
              <a:t>Resultados (ou Desenvolvimento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r>
              <a:rPr b="1" lang="pt-PT" sz="3200" spc="-1" strike="noStrike">
                <a:solidFill>
                  <a:srgbClr val="c45b58"/>
                </a:solidFill>
                <a:latin typeface="Calibri"/>
              </a:rPr>
              <a:t>Results (or Prog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TEXTO - Resultad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68280" y="28173240"/>
            <a:ext cx="679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13040"/>
                <a:tab algn="l" pos="5627520"/>
                <a:tab algn="l" pos="84423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Calibri"/>
                <a:ea typeface="Arial"/>
              </a:rPr>
              <a:t>UMA ONDA EfS NA FORMAÇÃO DA U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Imagem 1" descr=""/>
          <p:cNvPicPr/>
          <p:nvPr/>
        </p:nvPicPr>
        <p:blipFill>
          <a:blip r:embed="rId6"/>
          <a:stretch/>
        </p:blipFill>
        <p:spPr>
          <a:xfrm>
            <a:off x="-34920" y="0"/>
            <a:ext cx="21494880" cy="329076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25"/>
          <p:cNvSpPr/>
          <p:nvPr/>
        </p:nvSpPr>
        <p:spPr>
          <a:xfrm>
            <a:off x="276120" y="558720"/>
            <a:ext cx="16445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Calibri"/>
                <a:ea typeface="Arial"/>
              </a:rPr>
              <a:t>ENERGIA  PARA  A  SUSTENTABILIDA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4800" spc="-1" strike="noStrike">
                <a:solidFill>
                  <a:srgbClr val="ffffff"/>
                </a:solidFill>
                <a:latin typeface="Calibri"/>
                <a:ea typeface="Arial"/>
              </a:rPr>
              <a:t>ENERGY  FOR  SUSTAINABILITY   •   EfS | U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7"/>
          <a:stretch/>
        </p:blipFill>
        <p:spPr>
          <a:xfrm>
            <a:off x="15846480" y="882720"/>
            <a:ext cx="34891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0:20:25Z</dcterms:created>
  <dc:creator>MCGS</dc:creator>
  <dc:description/>
  <dc:language>en-US</dc:language>
  <cp:lastModifiedBy>BGCT</cp:lastModifiedBy>
  <dcterms:modified xsi:type="dcterms:W3CDTF">2015-10-07T11:57:46Z</dcterms:modified>
  <cp:revision>35</cp:revision>
  <dc:subject/>
  <dc:title>Slide 1</dc:title>
</cp:coreProperties>
</file>